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4C40-0C2F-4EED-9F71-497AFFCF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9712-A351-439E-83C7-8BDBF995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9BEA-6F2C-4AED-BFF4-B42E2672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50C-64DC-48A3-B72A-21B3CE2B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FFE9-86D8-40B6-BCAC-FE6985C7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6B81-6643-45A0-BE8A-AF51F506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8D30-71B4-4379-AE26-2D0B34E7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9AD2-AA59-4022-8E04-FCD18E6E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6E7A-5B63-49FA-BD9E-F56D7959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060C-91F1-443B-80DC-1DC1370B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B4AC-1857-4A5D-87AA-739905F0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2EE-71CF-4A9F-97B7-DABCCBA0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9175-0792-47B7-A1CC-43B1CC45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ADF1-D409-442D-85D4-7C2705E4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B9BA-4F2C-4757-9CC6-150B290A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F66F-17D9-4A72-A838-DE982C1E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B0D0-FE80-4EAE-BA55-484AA964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BED-081D-4F63-B0A6-361B64B6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6BED-4F1B-4BB8-B602-2233DF03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E9DA-EDCF-4A22-89DA-42C210EF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EC9F-C7F2-464A-A6C7-1A633B79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8333-0270-4A23-97F1-E87D245F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4D18-7E49-4BF4-BDB4-A5D9D9E0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580B-658D-49E1-AE11-911C7C1B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F865-EF3F-484D-9F50-CF5DC2348A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27E2-0AF0-4CFB-8EAC-29F3E74E21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ass Bivalvi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Two-Shelled” Mollu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17960" y="1371240"/>
            <a:ext cx="3927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Zebra mussels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clog the intake and outtake pipes of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dustrial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nts.  They were introduced into the Great Lakes of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rth America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ships from norther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urope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1986.  By 1994, these pests had increased their residential area to the Mississippi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River Delta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ew Orleans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They ea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hytoplank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which is an important food source for other aquatic animals.  The control of thi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vasive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st will cost the United State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illions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3926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Pearl Indust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ultu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 pearl industry is vital to Japan and other regions of the world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Japanese economy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 is an important part of the world’s economy and affects the economy of othe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untries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5006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ass Bivalv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lusks in the Clas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ivalvi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also known a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elecypod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or “hatchet-footed” animal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ar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ival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which means that they hav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w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hel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range in size from tiny seed shells that ar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to 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length to the giant South Pacific Clams, which are more tha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mete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length and weigh more tha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und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927600" cy="3614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81480" y="3987720"/>
            <a:ext cx="32004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 Bivalve Dinn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valves are mostly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filter feed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This means that they use the wat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urr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eated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ilia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ir gills to bring in food materials from the wat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valves DO NOT have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ad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dul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So they can only eat very small food part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valve Hom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valves mostly live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ine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quatic environ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some also live in the freshwater aquatic environments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akes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nds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treams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4120" y="2157480"/>
            <a:ext cx="32763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Bivalve Bo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wo shells (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v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of a bivalve are held together o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orsal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e of the animal by a hinge liga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tell the age of the bivalve by finding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mbo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or oldest part of the shell.  Growth occurs 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centric, ringed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s around the umbo like the growth  lines on the trunk of a tre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2036880"/>
            <a:ext cx="392760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valves in Mo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392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valves ha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ne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ot that they can stick out between their shells.  They pump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lood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to their foot and cause it to swell and anchor into the sand.  Muscles then contract to pull the blood out of the foot and pull the anima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ward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callops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ile shells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n move by flapping their shells togeth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17960" y="2241720"/>
            <a:ext cx="392760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change of Gases in Bival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valves use thei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ntle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lls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filter oxygen from the wa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0560" y="1905120"/>
            <a:ext cx="4275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king Baby Bival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bivalves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isex animals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This means that they are male 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emale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typically reproduc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tern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reshwater clams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oduce internally.  Eggs drop in the wat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ubes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gills and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ertiliz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perm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enter with the water fl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2048040"/>
            <a:ext cx="3927600" cy="39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y Should Humans Care About Bivalve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Shipworms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n actually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bore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to hard surfaces like wood or stone.  They are very destructive if they move into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shipyards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umans like to eat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bivalves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  The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oyster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scallops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lams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have long been a staple in the human diet.  Their shells are also used to make decorative items like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jewelry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876920" y="2243160"/>
            <a:ext cx="395748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6:38:57Z</dcterms:created>
  <dc:creator>kmcgrady</dc:creator>
  <dc:description/>
  <dc:language>en-US</dc:language>
  <cp:lastModifiedBy>kmcgrady</cp:lastModifiedBy>
  <dcterms:modified xsi:type="dcterms:W3CDTF">2011-02-24T20:29:19Z</dcterms:modified>
  <cp:revision>4</cp:revision>
  <dc:subject/>
  <dc:title>Class Bivalvia</dc:title>
</cp:coreProperties>
</file>